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94F-69AE-4B51-94A7-89F58497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B3D-E428-4566-B92E-8D12A12B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45D-C266-4E73-8D2F-952E8B4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ECA-F318-4027-8C14-144FF5E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491-0016-42FB-AB46-99C7F3B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BA0-146B-4715-B346-09DB1A1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6D8-2E5A-4998-A052-D806500F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8B1-46F6-4FF6-90DF-620698D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97B-52EA-41A6-8313-F41B340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8E4-AF61-4C3A-8C09-9D019E1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A9E-A799-49D6-ABE1-CAC807A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471-EE50-45BD-89EE-9EADC60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9D8-7752-42CE-A371-CB08C453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2630520" y="2630520"/>
            <a:ext cx="6858000" cy="159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Rikke Hoffmann Mill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189000"/>
            <a:ext cx="1440000" cy="1224000"/>
          </a:xfrm>
          <a:custGeom>
            <a:avLst/>
            <a:gdLst>
              <a:gd name="textAreaLeft" fmla="*/ 338400 w 1440000"/>
              <a:gd name="textAreaRight" fmla="*/ 1100520 w 1440000"/>
              <a:gd name="textAreaTop" fmla="*/ 143640 h 1224000"/>
              <a:gd name="textAreaBottom" fmla="*/ 767880 h 1224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7080" y="981000"/>
            <a:ext cx="934920" cy="792360"/>
          </a:xfrm>
          <a:custGeom>
            <a:avLst/>
            <a:gdLst>
              <a:gd name="textAreaLeft" fmla="*/ 219600 w 934920"/>
              <a:gd name="textAreaRight" fmla="*/ 714600 w 93492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197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907920"/>
            <a:ext cx="5689800" cy="4969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2349360"/>
            <a:ext cx="3025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lo !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name is Rik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in class 7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pet’s &lt;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best friends called Amalie, Nanna &amp; Freja :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84960" y="4365720"/>
            <a:ext cx="1859040" cy="249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451640" y="285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me 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12000" y="3357720"/>
            <a:ext cx="576360" cy="863280"/>
          </a:xfrm>
          <a:prstGeom prst="downArrow">
            <a:avLst>
              <a:gd name="adj1" fmla="val 50000"/>
              <a:gd name="adj2" fmla="val 37445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1873440" cy="124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27640" y="105264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dog who look like my dog Mizzy &lt;3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09960" y="-517680"/>
            <a:ext cx="819000" cy="2232000"/>
          </a:xfrm>
          <a:custGeom>
            <a:avLst/>
            <a:gdLst>
              <a:gd name="textAreaLeft" fmla="*/ 272880 w 819000"/>
              <a:gd name="textAreaRight" fmla="*/ 701640 w 819000"/>
              <a:gd name="textAreaTop" fmla="*/ 1285560 h 2232000"/>
              <a:gd name="textAreaBottom" fmla="*/ 19119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20:05Z</dcterms:created>
  <dc:creator>02a15</dc:creator>
  <dc:description/>
  <dc:language>en-US</dc:language>
  <cp:lastModifiedBy>02a15</cp:lastModifiedBy>
  <dcterms:modified xsi:type="dcterms:W3CDTF">2010-02-09T09:46:23Z</dcterms:modified>
  <cp:revision>2</cp:revision>
  <dc:subject/>
  <dc:title>Dias nummer 1</dc:title>
</cp:coreProperties>
</file>